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F8EE-AF38-46C1-BA9B-E42DFCA5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6A95-1494-4E28-B6B9-A49D3598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lideplayer.com/slide/8169164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DF60-9B12-491B-9288-6FC90886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853-3F0B-4CBE-966F-13E9974A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logy-pictures.blogspot.ca/2013/06/secondary-structure-of-protei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H-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325-7729-4F78-A559-803FCA90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Protein-Structure/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alevelnotes.com/Protein-Structure/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5B83-0882-4919-9784-6B4F3AC3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2D7-7560-426C-928A-D0A32C4C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33B-FE28-4881-9819-3A0BB426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98D-80E7-44AF-A4B8-B916E3E8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182D-C7FA-49ED-8F35-F7C8896D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78stepshealth.us/plasma-membrane/membrane-composition-and-struct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B3E8-188A-4A95-B2AC-327E4293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E60-5347-4E48-B609-8E66A163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8F7B-944E-4177-9DD1-54408086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herb.com/product-reviews/Solgar-Whey-To-Go-Whey-Protein-Powder-Natural-Vanilla-Flavor-32-oz-907-g/3765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387-A3FF-48E6-8AAF-72619900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73D-A93E-42C7-AE50-C8ECD172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104E-ACAA-4DD6-85DB-09356D2D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f.fu-berlin.de/lehre/WS14/ProteomicsWS14/LUS/lu1d/201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72B-4CB1-4DE7-8B93-D788EBF3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306-E4FA-40B7-AAE4-6A5D51B6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A74-D746-42D8-B575-DE0B9060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59B-965C-4020-8757-CF78FDCF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281-A5D6-496D-9A77-4755948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E86-1BD3-463B-8A96-43A329B6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037-E38B-4563-92E2-7C4D8A19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C02-8C98-4EFC-8D49-57E146C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A18-8F0D-4CA0-8112-558DCAFF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D65-0429-4BF2-926B-CD62ECD0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396-B0C8-40DB-B4EB-ECB13A5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B77-F558-4B2C-A41E-39599E8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AE2-F3F1-478B-BDDD-A0DE4894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EFC-1A0A-47BA-A3B7-FEF8233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852-6EAC-47F5-8E50-740B385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616-A414-4A61-B710-EEFCB3788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4U - Bio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slide_7.jpg"/>
          <p:cNvPicPr/>
          <p:nvPr/>
        </p:nvPicPr>
        <p:blipFill>
          <a:blip r:embed="rId1"/>
          <a:srcRect l="-1923" t="0" r="-1923" b="0"/>
          <a:stretch/>
        </p:blipFill>
        <p:spPr>
          <a:xfrm>
            <a:off x="755640" y="549360"/>
            <a:ext cx="777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rotein_-_Secondary_Structure"/>
          <p:cNvPicPr/>
          <p:nvPr/>
        </p:nvPicPr>
        <p:blipFill>
          <a:blip r:embed="rId1"/>
          <a:stretch/>
        </p:blipFill>
        <p:spPr>
          <a:xfrm>
            <a:off x="1239840" y="1981080"/>
            <a:ext cx="666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2" descr="Image85.gif"/>
          <p:cNvPicPr/>
          <p:nvPr/>
        </p:nvPicPr>
        <p:blipFill>
          <a:blip r:embed="rId1"/>
          <a:srcRect l="-35337" t="0" r="-35337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protein21.JPG"/>
          <p:cNvPicPr/>
          <p:nvPr/>
        </p:nvPicPr>
        <p:blipFill>
          <a:blip r:embed="rId1"/>
          <a:srcRect l="-40899" t="0" r="-40899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ins also require non-protein prosthetic groups t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has 4 polypeptides, and 4 heme groups (each with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NA mutation causes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 of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ickle-Cell-Anemia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onditions (heat, pH, exposure to radiation)  can cause bonds between amino acids to be disrupted, causing the shape of a protein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change in biologic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3342_121_160-integral-membrane-proteins.jpg"/>
          <p:cNvPicPr/>
          <p:nvPr/>
        </p:nvPicPr>
        <p:blipFill>
          <a:blip r:embed="rId1"/>
          <a:srcRect l="-34523" t="0" r="-34523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diverse group of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tal structures and functions in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oteins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OL-03668-2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410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ir, tendons,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tibodi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rmones, messeng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v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across membran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 &amp; recept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ll surfa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v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of cells &amp; structur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polymers of 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rest can be synthesized by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mino_acid_structure_2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4" descr="aa_properties.png"/>
          <p:cNvPicPr/>
          <p:nvPr/>
        </p:nvPicPr>
        <p:blipFill>
          <a:blip r:embed="rId1"/>
          <a:srcRect l="-23485" t="0" r="-23485" b="0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a1aa2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pept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hain of 50+ a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and number of a.a. in a protein determine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structure of th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rotein-structure2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7-02-15T11:08:17Z</dcterms:modified>
  <cp:revision>218</cp:revision>
  <dc:subject/>
  <dc:title>Organic Chemistry</dc:title>
</cp:coreProperties>
</file>